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99ECB-2206-4349-AC30-7154FFC2CA0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Copyright 2007.  M. J. Krech. All rights reserv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7.  M. J. Krech. All rights reserv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Qua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ct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lf l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Qua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 l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ning Cresc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ef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 than half l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ning Cresc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than half l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rd (Last) Qua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on r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 than half l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(Last) Qua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on r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than half l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ll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l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 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l Full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lly li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you see the “Man in the Moon?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Copyright 2007.  M. J. Krech. All rights reserv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al Full 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y li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see the “Man in the Moon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7.  M. J. Krech. All rights reserv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xing Cresc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 than half l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xing Cresc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than half l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ning Gibb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ef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than half l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ning Gibb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han half l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light visi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light vi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xing Gibb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than half l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xing Gibb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han half l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1781-C7B5-4E7A-8DC1-889E1E364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EF60-C06A-4466-95AF-181F131A4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9803-2186-4CC5-8A2C-0DDC52917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DC0A-83FC-4276-B733-7D8EE6882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521E-3DE5-4C90-A923-D797E9BD6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9787-D376-4C63-A371-E8930B3AA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3022-CA9A-42AA-9018-C00DA77EA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9E98-0BF3-4857-9AF8-AFBECDBE2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6AEE-B202-436A-B058-CFAFAD8C9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0B0A-633B-4C6B-B2B1-6196D0E0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2717-3017-48E9-80E6-CAAEB0A0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5C71-5167-4FDC-AA70-36D93655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DF0A9-7E6C-4845-BF0C-398058F215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Moon Phase Is Th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105160" y="2209680"/>
            <a:ext cx="3276360" cy="3733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nd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D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ou Kn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6" descr="_x000b_waxcres.gif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3372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7"/>
          <p:cNvSpPr/>
          <p:nvPr/>
        </p:nvSpPr>
        <p:spPr>
          <a:xfrm>
            <a:off x="2819520" y="6170760"/>
            <a:ext cx="5675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© Copyright 2007.  M. J. Krech. All rights reserve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First Quart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876920" y="2133360"/>
            <a:ext cx="3504960" cy="3733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ight 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 righ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Exact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alf l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9" descr="_x000c_firstqtr.gif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8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Moon Phase Is Th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105160" y="2209680"/>
            <a:ext cx="3276360" cy="3733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nd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D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ou Kn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11" descr="_x000b_wancres.gif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3372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9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aning Cresce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876920" y="2133360"/>
            <a:ext cx="3504960" cy="3733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ight 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 lef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ess than half l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10" descr="_x000b_wancres.gif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9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Moon Phase Is Th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105160" y="2209680"/>
            <a:ext cx="3276360" cy="3733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nd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D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ou Kn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8" descr="_x000b_lastqtr.gif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10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Third (Last) Quart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876920" y="2133360"/>
            <a:ext cx="3504960" cy="3733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ight on righ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ess than half l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10" descr="_x000b_lastqtr.gif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10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Moon Phase Is Th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105160" y="2209680"/>
            <a:ext cx="3276360" cy="3733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nd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D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ou Kn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11" descr="_x0008_full.gif   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10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Full Mo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876920" y="2133360"/>
            <a:ext cx="3504960" cy="3733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Full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l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3" descr="_x0008_full.gif   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11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The Real Full Mo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800240" y="2133720"/>
            <a:ext cx="3505320" cy="3581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ully lit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an you see the “Man in the Moon?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906120" y="6248520"/>
            <a:ext cx="523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© Copyright 2007.  M. J. Krech. All rights reserve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13" descr="_x000c_fullmoon.jpg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092320"/>
            <a:ext cx="3809880" cy="3890880"/>
          </a:xfrm>
          <a:prstGeom prst="rect">
            <a:avLst/>
          </a:prstGeom>
          <a:ln w="0">
            <a:noFill/>
          </a:ln>
        </p:spPr>
      </p:pic>
      <p:sp>
        <p:nvSpPr>
          <p:cNvPr id="117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axing Cresce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876920" y="2133360"/>
            <a:ext cx="3504960" cy="3733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ight 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 righ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ess than half l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6" descr="_x000b_waxcres.gif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5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Moon Phase Is Th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105160" y="2209680"/>
            <a:ext cx="3276360" cy="3733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nd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D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ou Kn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0" descr="&#10;wangib.gif 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6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aning Gibbou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876920" y="2133360"/>
            <a:ext cx="3504960" cy="3733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ight 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 lef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More than half l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9" descr="&#10;wangib.gif 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6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Moon Phase Is Th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05160" y="2209680"/>
            <a:ext cx="3276360" cy="3733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nd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D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ou Kn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10" descr="_x0007_new.gif    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6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New Mo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876920" y="2133360"/>
            <a:ext cx="3504960" cy="3733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No light visib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0" descr="_x0007_new.gif    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7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Moon Phase Is Th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105160" y="2209680"/>
            <a:ext cx="3276360" cy="3733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nd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D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ou Kn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9" descr="&#10;waxgib.gif 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7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axing Gibbou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876920" y="2133360"/>
            <a:ext cx="3504960" cy="3733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ight 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 righ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More than half l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9" descr="&#10;waxgib.gif 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8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Moon Phase Is Th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105160" y="2209680"/>
            <a:ext cx="3276360" cy="3733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nd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D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ou Kn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12" descr="_x000c_firstqtr.gif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8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2T13:25:09Z</dcterms:created>
  <dc:creator>john smith</dc:creator>
  <dc:description/>
  <dc:language>en-US</dc:language>
  <cp:lastModifiedBy>LEGION</cp:lastModifiedBy>
  <dcterms:modified xsi:type="dcterms:W3CDTF">2018-03-22T11:00:37Z</dcterms:modified>
  <cp:revision>35</cp:revision>
  <dc:subject/>
  <dc:title>What Moon Phase Is This?</dc:title>
</cp:coreProperties>
</file>